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6C37-1E7A-4BD5-B1A7-78B4A3C1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E08C-7DFD-47A7-884B-4EDE952C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36B6-BBA5-488A-BFF2-49517E6D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3E6B-4414-4BC5-94B1-31612C790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D842-3164-4CB2-9492-B49FFEA51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3275-68BE-417C-9DC3-4832B730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A825-462E-4E11-8133-0D561D4D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DE44-1D5B-4BE6-95DF-86ECEC67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261D-0B66-4FC1-BD0D-2F899263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2D3F-BAB1-4178-9F05-60339D16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5960-8B0E-4292-A673-F2E9B629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52FE-E1C0-4646-98CF-A389963C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348C-94AE-4C22-AF8B-87EA6B0F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1AF1-820A-4452-A8B7-1CED9341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1D72-CBCC-4B3A-A8A4-ADDCEABE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8C39-9AD9-4EF0-9B94-A3ED08CC1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453E-AA96-4E7E-B785-347B4D83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6BF6-A7B9-43ED-85A0-FF737414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8DA4-3F31-438D-AEC0-C6346F56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3941-CD6B-43A2-A177-E9F7DD57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88E4-C132-412C-AE06-EFC3BD08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B6D7-1525-4A11-953D-2A430D84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BCDB-6EEF-458A-A8BF-F43242ED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D2CC-CA90-444B-B491-0F0DADC7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EDFD-570D-463F-8295-71C17CF78C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50A5-89C8-433B-922C-34CA0064AC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90720" y="475920"/>
            <a:ext cx="67816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 u="sng">
                <a:solidFill>
                  <a:srgbClr val="ffffff"/>
                </a:solidFill>
                <a:uFillTx/>
                <a:latin typeface="Comic Sans MS"/>
              </a:rPr>
              <a:t>Sioe G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Mewn sioe gwn mae 196 o goesau a 126 o lygaid. Faint o bobl, a faint o gwn sydd yn y sio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00000" y="3068640"/>
            <a:ext cx="4176720" cy="2965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348000" y="3573360"/>
            <a:ext cx="5113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800" spc="-1" strike="noStrike">
                <a:solidFill>
                  <a:srgbClr val="ffffff"/>
                </a:solidFill>
                <a:latin typeface="Comic Sans MS"/>
              </a:rPr>
              <a:t>(Mae gan pob person a phob ci y nifer cywir o goesau a llygaid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20:13:08Z</dcterms:created>
  <dc:creator>Carwyn</dc:creator>
  <dc:description/>
  <dc:language>en-US</dc:language>
  <cp:lastModifiedBy>Carwyn</cp:lastModifiedBy>
  <dcterms:modified xsi:type="dcterms:W3CDTF">2008-12-02T20:20:29Z</dcterms:modified>
  <cp:revision>1</cp:revision>
  <dc:subject/>
  <dc:title>Slide 1</dc:title>
</cp:coreProperties>
</file>